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07E5-BC66-4142-850D-FA749B0D2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0D95-C4FB-4920-8D64-1F0C79AC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FD2E-F447-4EDB-B8EE-9B8EC0BDD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9DB8-2D4C-4554-9F8D-802A29562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BCA2-5499-42C3-848B-D16ED818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F1D9-A7C7-433E-AD38-DE7E7AF9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00A4-9FCB-466B-A852-B1C78FF0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BF8A-1662-4576-8119-0D07D938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0673-44C3-4275-AB86-1A9BA798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FBC7-BA8D-49B6-B2E7-3CC8BFCF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2C03-8174-458A-A0C8-C8BB52EA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F7A9-C9FC-4C89-9DD9-6678ED04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41B6-204D-435C-9058-2CC6B1BD7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fr.wikipedia.org/wiki/Image:Braun_HF_1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fr.wikipedia.org/wiki/R&#244;le_du_spectateur_dans_l%27art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484360" y="1988640"/>
            <a:ext cx="324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 téléviseur de 19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Un téléviseur de 195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981000"/>
            <a:ext cx="1905120" cy="2495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11280" y="450864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e télévision LCD à écran pl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 rot="437400">
            <a:off x="2762280" y="677520"/>
            <a:ext cx="583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 télévis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5" name="" descr="&lt;b&gt;SAMSUNG&lt;br&gt;Ecran 82cm&lt;br&gt;1366 X 768&lt;br&gt;3 HDMI TNT&lt;br&gt;Movie plus"/>
          <p:cNvPicPr/>
          <p:nvPr/>
        </p:nvPicPr>
        <p:blipFill>
          <a:blip r:embed="rId3"/>
          <a:stretch/>
        </p:blipFill>
        <p:spPr>
          <a:xfrm>
            <a:off x="5580000" y="3716280"/>
            <a:ext cx="25527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157 0.77155 C -0.1967 0.67098 0.00833 0.5704 0.05069 0.51375 C 0.0934 0.4571 -0.18004 0.46751 -0.14601 0.43121 C -0.11198 0.39491 0.23975 0.34751 0.25555 0.29595 C 0.27135 0.24439 -0.01702 0.16207 -0.05087 0.12254 C -0.08473 0.083 0.00191 0.08346 0.05243 0.05918 C 0.10277 0.03491 0.21545 0.003 0.25086 -0.02313 C 0.28628 -0.04926 0.30694 -0.10105 0.2651 -0.09712 C 0.22326 -0.09319 0.04409 -0.01573 2.77778E-007 -6.47399E-006 E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ff"/>
                </a:solidFill>
                <a:latin typeface="Arial"/>
              </a:rPr>
              <a:t>Les opin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3516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À mon avis,  les documentaires sont ennuyeu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s infos sont ennuyeu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s parents préfèr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ard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men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ard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la ne m’intéresse pas/ Je trouve ça barbant/ennuy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 temps en temps on se dispute à cause de la télé car le meilleur endroit de regarder la télé est dans la salle de séj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 j’avais toujour les choix pour ma famille nous regarderaient toujours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les dessins animé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2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20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00ff"/>
                </a:solidFill>
                <a:latin typeface="Arial"/>
              </a:rPr>
              <a:t>Je n’aime pas regarder la télé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e préfère jouer à l’ordinateur. S’il y a une émission qui m’intéresse je peux la voir sur l’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e préfère aller au cinéma car il est mieux sur le grand écr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e préfère louer des DV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372360" y="4076640"/>
            <a:ext cx="20095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2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ff"/>
                </a:solidFill>
                <a:latin typeface="Arial"/>
              </a:rPr>
              <a:t>En conclus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3300"/>
                </a:solidFill>
                <a:latin typeface="Arial"/>
              </a:rPr>
              <a:t>En somme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,…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3300"/>
                </a:solidFill>
                <a:latin typeface="Arial"/>
              </a:rPr>
              <a:t>En bref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,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... j’aime bien regarder la télé. Certaines émissions sont éducatives et on peut se reposer en regardant la télé. C’est une fuite de réalité pour quelques heures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3933720"/>
            <a:ext cx="835164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3300"/>
                </a:solidFill>
                <a:latin typeface="Arial"/>
              </a:rPr>
              <a:t>De toute façon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,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3300"/>
                </a:solidFill>
                <a:latin typeface="Arial"/>
              </a:rPr>
              <a:t>En tout cas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,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la télé est toujours plus intéressante que les devoirs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4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9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4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ff"/>
                </a:solidFill>
                <a:latin typeface="Arial"/>
              </a:rPr>
              <a:t>Une télévision LCD à écran pl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3715920"/>
            <a:ext cx="4392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Plus de dé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Prix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800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Design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ès bon design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Qualité d'image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ès bonne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Qualité sonore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onne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Facilité d'utilisation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ès facile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Rapport qualité/prix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on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Raison du choix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asard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443640" y="5057640"/>
            <a:ext cx="2700360" cy="1800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156360" y="1341360"/>
            <a:ext cx="2376360" cy="2951280"/>
          </a:xfrm>
          <a:prstGeom prst="wedgeRoundRectCallout">
            <a:avLst>
              <a:gd name="adj1" fmla="val 6712"/>
              <a:gd name="adj2" fmla="val 8313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n principal passe temps le weekend est de regarder la télévision avec mon chérie, et je vous garanti que regarder un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v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là dessus est vraiment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jouissif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72360" y="458136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njoyable/ pleasu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Samsung LE32R86BD"/>
          <p:cNvPicPr/>
          <p:nvPr/>
        </p:nvPicPr>
        <p:blipFill>
          <a:blip r:embed="rId3"/>
          <a:stretch/>
        </p:blipFill>
        <p:spPr>
          <a:xfrm>
            <a:off x="1332000" y="1484280"/>
            <a:ext cx="262548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1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1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1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00ff"/>
                </a:solidFill>
                <a:latin typeface="Arial"/>
              </a:rPr>
              <a:t>Pourquoi est-ce qu’on regarde la télé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 télévision peut entraîner, chez le spectateur, 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une fuite de la réalité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On peut se détendre facilement chez so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’est un bon moyen de savoir ce qui se passe dans le monde. Le journal télévisé du soir est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un quasi ritue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La télévision est dans la société le principal média d'information. On peut s’informer des actualit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le offre une grande sélection d’émissions – il y a toutes sortes de genres pour chac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’est populaire/ à la mode et on peut partager les mêmes expériences et échanger des points de vue sur certaines choses – par exemple, qui va gagner X-factor?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3413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n escape from 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43640" y="2349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lmost a ri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00ff"/>
                </a:solidFill>
                <a:latin typeface="Arial"/>
              </a:rPr>
              <a:t>Qu’est-ce que tu penses de la télé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940360" y="3357720"/>
            <a:ext cx="2490840" cy="3068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68360" y="1413000"/>
            <a:ext cx="4680000" cy="3671640"/>
          </a:xfrm>
          <a:prstGeom prst="wedgeRectCallout">
            <a:avLst>
              <a:gd name="adj1" fmla="val 89518"/>
              <a:gd name="adj2" fmla="val 487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42920" y="2060640"/>
            <a:ext cx="468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1557360"/>
            <a:ext cx="489564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Je trouve que la télévision est très favorable à la culture.</a:t>
            </a:r>
            <a:br>
              <a:rPr sz="2800"/>
            </a:b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Chaque fois que quelqu'un l'allume chez moi,</a:t>
            </a:r>
            <a:br>
              <a:rPr sz="2800"/>
            </a:b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je vais dans la pièce à côté et je lis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ucho Mar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000"/>
                            </p:stCondLst>
                            <p:childTnLst>
                              <p:par>
                                <p:cTn id="1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ff"/>
                </a:solidFill>
                <a:latin typeface="Arial"/>
              </a:rPr>
              <a:t>Qu’est-ce que c’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4897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ff"/>
                </a:solidFill>
                <a:latin typeface="Arial"/>
              </a:rPr>
              <a:t>Un écran O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 anglais :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rganic light-emitting diod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qui a formé l’acronyme O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 frança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ode électroluminescente orga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Un écran OLED."/>
          <p:cNvPicPr/>
          <p:nvPr/>
        </p:nvPicPr>
        <p:blipFill>
          <a:blip r:embed="rId1"/>
          <a:stretch/>
        </p:blipFill>
        <p:spPr>
          <a:xfrm>
            <a:off x="5580000" y="1052640"/>
            <a:ext cx="2808360" cy="2109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0920" y="3357720"/>
            <a:ext cx="8569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 OLED sont actuellement de plus en plus utilisées dans des produits à durée de vie courte ou moyenne &gt; On les utilise dans 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les téléphones mobiles/ portables, les baladeurs mp3 et les appareils photographiques numériqu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'utilisation pour des produits à durée de vie plus longue devrait mettre un peu plus de temps. On va les utiliser pour 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les moniteurs d’ordinateurs et télévise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537372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 technologie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L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ossède de 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nombreux avantag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ar rapport aux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LC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ible consommation électrique, meilleur rendu des couleurs, meilleur contraste minceur et souplesse du suppor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ff"/>
                </a:solidFill>
                <a:latin typeface="Arial"/>
              </a:rPr>
              <a:t>Les jeunes et la tél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Aujourd’hu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n entend souvent dire qu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De nos jou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on dit souvent qu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s jeunes regardent trop la télév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D’un côté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on peut apprendre beaucoup de choses en regardent la tél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D’un autre côté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cela peut être une perte de tem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rtains jeunes regardent la télé tous les soirs. D’autres préfèrent faire du sport/ d’autres font du sport ou sortent avec leurs amis/cop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2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20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ff"/>
                </a:solidFill>
                <a:latin typeface="Arial"/>
              </a:rPr>
              <a:t>Moi et la télé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ou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i, je regarde 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- de temps en temp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 tél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- rarement 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e regarde la télé environ 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rois heures par jou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inq heures par semai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ff"/>
                </a:solidFill>
                <a:latin typeface="Arial"/>
              </a:rPr>
              <a:t>Où est la télé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’ai ma propre chambre dans ma chambre et je l’y regarde car c’est cal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l y a trois télés dans la maison mais je n’ai aucune télé dans ma chambre – c’est interd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e peux regarder ce que je veu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e n’ai pas le droit de regarder la télé tard le so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1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1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6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1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6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1" dur="2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ff"/>
                </a:solidFill>
                <a:latin typeface="Arial"/>
              </a:rPr>
              <a:t>Émission préféré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M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émission préféré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st “Friends”. C’est une comédie et je l’aime bien car c’est drôle/amusant. Jennifer Anniston joue un rôle signifcatif/ un des rôles principaux et elle est bonne actri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M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émission préféré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st “ER”. C’est un feuilleton et je l’aime bien parce que c’est passionant. George Clooney joue le rôle principal est il est bon acteu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458136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 préfère regarder des comédies/ des dessins anim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21:38:08Z</dcterms:created>
  <dc:creator>Rosalind Elliott</dc:creator>
  <dc:description/>
  <dc:language>en-US</dc:language>
  <cp:lastModifiedBy>Rosalind Elliott</cp:lastModifiedBy>
  <dcterms:modified xsi:type="dcterms:W3CDTF">2007-11-12T22:12:37Z</dcterms:modified>
  <cp:revision>5</cp:revision>
  <dc:subject/>
  <dc:title>La télévision</dc:title>
</cp:coreProperties>
</file>